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FE93-A94C-4F46-9CE1-F8C6FDEE1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02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ACAF-5D11-4DD2-B14B-F9AA9764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02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9083-2373-4C8C-B6B8-2F46BFF37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02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55B8-F12B-4538-9570-CDDB18CBE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02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D0CE-1A8F-4E8E-A174-3A99A374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02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8FD3-F6AE-48F3-8B0F-FAC93582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02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2DE0-96B1-4CDB-ACA8-7B9513A2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02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EC7C-5FEB-4B25-9CE6-F946772C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02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7D85-4D9C-48CB-8EFC-016E684D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02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3627-2B18-44A7-988F-1ABF894E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02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8052-DA7C-47D9-92B7-0245BB32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02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C620-C71E-487E-8474-9991E7D4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02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.06.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040" y="624852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uptseminar Didakt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E3D8-E8AB-4B64-A68E-467B75E166F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304920"/>
            <a:ext cx="7772400" cy="198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Planungsvorschlag LB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DPGeraden/pgeraden.exe" TargetMode="External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DPRaucher/praucher.exe" TargetMode="External"/><Relationship Id="rId2" Type="http://schemas.openxmlformats.org/officeDocument/2006/relationships/hyperlink" Target="file:///DPSchaltjahr/pschaltjahr.exe" TargetMode="External"/><Relationship Id="rId3" Type="http://schemas.openxmlformats.org/officeDocument/2006/relationships/hyperlink" Target="file:///DPGeraden_OhneProzeduren/pgeraden.exe" TargetMode="External"/><Relationship Id="rId4" Type="http://schemas.openxmlformats.org/officeDocument/2006/relationships/hyperlink" Target="file:///DPRoboter/probot.exe" TargetMode="External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ungsvorschlag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05704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chdidaktische Disk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m Lernbereich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strukturen und Modularis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undkurs Informat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ahrgangsstufe 11/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U Dresden – Fakultät Informat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ril 2008 – Ss 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laf Klärner / Frank Ka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6686-62EB-425A-AD77-B525A611BA0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900"/>
                            </p:stCondLst>
                            <p:childTnLst>
                              <p:par>
                                <p:cTn id="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100"/>
                            </p:stCondLst>
                            <p:childTnLst>
                              <p:par>
                                <p:cTn id="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800"/>
                            </p:stCondLst>
                            <p:childTnLst>
                              <p:par>
                                <p:cTn id="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400"/>
                            </p:stCondLst>
                            <p:childTnLst>
                              <p:par>
                                <p:cTn id="3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300"/>
                            </p:stCondLst>
                            <p:childTnLst>
                              <p:par>
                                <p:cTn id="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2200"/>
                            </p:stCondLst>
                            <p:childTnLst>
                              <p:par>
                                <p:cTn id="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4550"/>
                            </p:stCondLst>
                            <p:childTnLst>
                              <p:par>
                                <p:cTn id="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6200"/>
                            </p:stCondLst>
                            <p:childTnLst>
                              <p:par>
                                <p:cTn id="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tundenziele und didaktische Hinweis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835760" y="228600"/>
            <a:ext cx="83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Zie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24000" y="1773360"/>
          <a:ext cx="8640720" cy="4371840"/>
        </p:xfrm>
        <a:graphic>
          <a:graphicData uri="http://schemas.openxmlformats.org/drawingml/2006/table">
            <a:tbl>
              <a:tblPr/>
              <a:tblGrid>
                <a:gridCol w="2624040"/>
                <a:gridCol w="3935520"/>
                <a:gridCol w="20811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gnitive Zi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ychomotorische Zi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ffektive Zi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griffe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ntyp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nstrukt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önnen zu einer Information passenden Datentyp oder Datenstruktur zuordn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önnen zu Datentypen oder Datenstrukturen passende Beispiele zuordn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kennen Notwendigkeit der sinnvollen Verwendung passender Datentypen - Speicherplatzbedar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lphi-IDE-Grundla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urechtfind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menskonvention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insicht in die Notwendigkeit verständlicher und einheitlicher Bezeich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lphi-Projekt-Aufba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önnen Projekt anlegen, speichern, können Quelltextdatei finden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lphi-Objekte (Edit,Button,Label,Formular, Uni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önnen Objekte erstellen und ihre Eigenschaften definieren, Können Button-Clickmethoden erzeugen, Ein-und Ausgaben in Editfelder programmieren, Wertzuweisungen und Typumwandlungen durchführ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609480" y="1413000"/>
            <a:ext cx="24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Doppelstunde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2CA8-A96C-4566-8E01-2A914E5F69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tundenziele und didaktische Hinweise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413000"/>
            <a:ext cx="24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Doppelstunde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24000" y="1809720"/>
          <a:ext cx="8424720" cy="4403880"/>
        </p:xfrm>
        <a:graphic>
          <a:graphicData uri="http://schemas.openxmlformats.org/drawingml/2006/table">
            <a:tbl>
              <a:tblPr/>
              <a:tblGrid>
                <a:gridCol w="1439640"/>
                <a:gridCol w="5545080"/>
                <a:gridCol w="1440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ilzi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of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hrer- und Schülertätigke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ielorientierung / Motivieru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sgehend vom EVA-Prinzip sollen Informationen in Form von Daten gespeichert, verarbeitet und visualisiert werden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ichtiges Werkzeug: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Programmiersprache (P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 behandeln Daten unterschiedlich: 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isieru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 fassen Daten gleicher oder unterschiedlicher Typen nach bestimmten Konstruktionsprinzipien zusammen: 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ukturieru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griffe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ntyp, Datenstrukt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tionen Daten, Datentyp, Datenstrukture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deutung und Beispiele zu den Datentypen 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hlen, Texte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ld, Record 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d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Datenstrukturen Baum,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le, [Schlange, Stapel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plikatione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ST, mit LB oder Inter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Begriff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FO /FIF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er nicht sinnvoll 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ezielle Beispiele für Datenstrukturen: 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hlange und Stap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pel: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Bsp.: Befehl Rückgängig, Verzeichnisaufbau Adresszeile im WindowsExplor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arbeitungsprinzip LIFO erläuter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hlange: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Bsp.: Analogie: Verarbeitungsprinzip FI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ispiele Warteschlange (Einschreibung in Hochschule, Druckerwarteschlang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entuell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 – Schülervortr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bereits 14 Tage vorher beauftrag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7835760" y="228600"/>
            <a:ext cx="83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Zie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CB65-03A1-4AA5-80C9-7712002996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tundenziele und didaktische Hinweise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1413000"/>
            <a:ext cx="24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Doppelstunde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24000" y="1809720"/>
          <a:ext cx="8424720" cy="4281480"/>
        </p:xfrm>
        <a:graphic>
          <a:graphicData uri="http://schemas.openxmlformats.org/drawingml/2006/table">
            <a:tbl>
              <a:tblPr/>
              <a:tblGrid>
                <a:gridCol w="2303280"/>
                <a:gridCol w="4681440"/>
                <a:gridCol w="1440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ilzi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of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hrer- und Schülertätigke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bildung der Daten und deren Verarbeitung mittels 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inführung in DELPHI - Geschichtlicher Abriss -Was ist Delphi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lphi-DIE Objekte und Namensvereinbarun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lphi- Projekt- Aufba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önnen Projekt anlegen, speichern, können Quelltextdatei finden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önnen Objekte erstellen und ihre Eigenschaften definieren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lphi-Objekte (Edit, Button, Label, Formular, Uni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rbereitetete UML-Diagram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V, SST Ausfüllen der UM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önnen ButtonClickmethoden erzeugen, Ein-und Ausgaben in Editfelder programmieren, Wertzuweisungen und Typumwandlungen durchführ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quentielles </a:t>
                      </a:r>
                      <a:r>
                        <a:rPr b="0" lang="en-US" sz="1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Times New Roman"/>
                          <a:hlinkClick r:id="rId1"/>
                        </a:rPr>
                        <a:t>Einstiegsprogramm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mi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infachen Datentypen (Schnittpunkt, Schnittwinkel zweier Geraden), Formular wird vorgegeben,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lie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G, S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7835760" y="228600"/>
            <a:ext cx="83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Zie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E5E0-6C99-4F87-BCB9-097B911F1F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tundenziele und didaktische Hinweis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1413000"/>
            <a:ext cx="24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Doppelstunde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68360" y="1809720"/>
          <a:ext cx="8424360" cy="3347640"/>
        </p:xfrm>
        <a:graphic>
          <a:graphicData uri="http://schemas.openxmlformats.org/drawingml/2006/table">
            <a:tbl>
              <a:tblPr/>
              <a:tblGrid>
                <a:gridCol w="2808000"/>
                <a:gridCol w="2808360"/>
                <a:gridCol w="280800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gnitive Zi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ychomotorische Zi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ffektive Zi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iederholung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Begriffe. 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in- und mehrseitige Alternative, Zählschleife, anfangs- und endgeprüfte Schleifen,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kennnen Unterschie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önnen Grundstrukturen auf Problemstellungen modellieren, Können Programmier-Kenntnisse aus Profil 9/10 übertragen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ammierkultur: BEGIN-END; THEN-ELSE werden sofort untereinander geschrieben, PASCAL-Wörter in Großbuchstab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blemanalyse und Modellierung (Struktogramm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twicklung einfacher Delphi-Projekte, Erstellung einfacher Formul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fische Kultur der Struktogramme, kurze deutsche aussagekräftige Inhal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7835760" y="228600"/>
            <a:ext cx="83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Zie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E105-C7BC-4E33-880D-AF08255D9C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tundenziele und didaktische Hinweise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13000"/>
            <a:ext cx="281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Doppelstunde I +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95280" y="1809720"/>
          <a:ext cx="8424720" cy="4140360"/>
        </p:xfrm>
        <a:graphic>
          <a:graphicData uri="http://schemas.openxmlformats.org/drawingml/2006/table">
            <a:tbl>
              <a:tblPr/>
              <a:tblGrid>
                <a:gridCol w="2232000"/>
                <a:gridCol w="3600360"/>
                <a:gridCol w="2592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ilzi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of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hrer- und Schülertätigkeit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ielorientierung / Motivieru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rgabe von Problemstellungen, Ziel: Erkennen der innewohnenden Strukt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iederholung aus Profil Klasse 9/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griffe: Ein- und mehrseitige Alternative, Zählschleife, anfangs- und endgeprüfte Schleifen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ispiele: Raucherproblem Schaltjahr-berechnung (Alternativen), Konto-entwicklung (Zählschleifen), Kapitalverdopplung (Anfangs- und/oder endgeprüfte Schleife), Werkzeugmaschine (Mehrseitige Alternative), Schnittpunkt, Schnittwinkel zweier Geraden mit Fallunterscheidungen (Alternativ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ST/ Arbeit in Schülergrupp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bei 16 Schülern in 2er bis 3er-Gruppen): Schüler erkennen in den Problem-stellungen die Grund-strukturen und entwickeln Struktogramme, Vorstellung der Struktogramme auf Folie (oder Appl. Strukte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usammenfassu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stematisierung der Strukturen, Diskussion zu Fehlern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stigung der Progarmmierstrukturen, Programmierfähigkeit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stellung von Delphi-Applikation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Times New Roman"/>
                          <a:hlinkClick r:id="rId1"/>
                        </a:rPr>
                        <a:t>DPRaucher</a:t>
                      </a:r>
                      <a:r>
                        <a:rPr b="1" i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0" lang="de-DE" sz="1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Times New Roman"/>
                          <a:hlinkClick r:id="rId2"/>
                        </a:rPr>
                        <a:t>DPSchaltjahr</a:t>
                      </a:r>
                      <a:r>
                        <a:rPr b="1" i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0" lang="de-DE" sz="1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Times New Roman"/>
                          <a:hlinkClick r:id="rId3"/>
                        </a:rPr>
                        <a:t>DPGeraden</a:t>
                      </a:r>
                      <a:r>
                        <a:rPr b="1" i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0" lang="de-DE" sz="1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Times New Roman"/>
                          <a:hlinkClick r:id="rId4"/>
                        </a:rPr>
                        <a:t>DPRoboter</a:t>
                      </a:r>
                      <a:r>
                        <a:rPr b="1" i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DPGeld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7835760" y="228600"/>
            <a:ext cx="83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Zie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99AA-9010-4A62-8DFA-67BD71C805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tundenziele und didaktische Hinweise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13000"/>
            <a:ext cx="24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Doppelstunde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95280" y="1809720"/>
          <a:ext cx="8424360" cy="4282920"/>
        </p:xfrm>
        <a:graphic>
          <a:graphicData uri="http://schemas.openxmlformats.org/drawingml/2006/table">
            <a:tbl>
              <a:tblPr/>
              <a:tblGrid>
                <a:gridCol w="2808000"/>
                <a:gridCol w="2808360"/>
                <a:gridCol w="2808000"/>
              </a:tblGrid>
              <a:tr h="30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gnitive Zi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ychomotorische Zi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ffektive Zi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griff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ntyp ARRAY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ein- und zweidimension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önnen Informationen dem Datentyp zuordn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achten einer effektiven Definition (Speicherplatz) und semantischen Zuordnung (Feldname – Inhal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ennen Verarbeitungsprinzip LIFO, FIFO bei Warteschlan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önnen Warteschlangenbeispiele den Verarbeitungsprinzipien zuordn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ähigkeit Begründen (von Zuordnungen), erkennen die breite praktische Anwendung des Prinzi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ennen Delphi-Objekt Tabel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önnen Daten eines zweidimensionalen Feldes in einer Tabelle ausgeben, können Tabelleneigenschaften definieren und Tabellenzugriffe implementier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7835760" y="228600"/>
            <a:ext cx="83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Zie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5B69-A962-4561-949D-0DCE86BFC0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tundenziele und didaktische Hinweise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1413000"/>
            <a:ext cx="317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Doppelstunde I +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95280" y="1809720"/>
          <a:ext cx="8497800" cy="3794040"/>
        </p:xfrm>
        <a:graphic>
          <a:graphicData uri="http://schemas.openxmlformats.org/drawingml/2006/table">
            <a:tbl>
              <a:tblPr/>
              <a:tblGrid>
                <a:gridCol w="1814400"/>
                <a:gridCol w="3849840"/>
                <a:gridCol w="2833560"/>
              </a:tblGrid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ilzi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of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hrer- und Schülertätigkeit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ielorientierung / Motivieru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ennenlernen von Strukturierten Datentypen, dazu Motivations-Beispiele aus der ersten Doppelstunde aufgreif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griff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nfe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itere Datenmengen aufzählen lassen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uktur beschreiben (Dimension zuordn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tion des Datentyps (Pascal) erklären, ein-, zwei- und dreidimensionale Strukturbeispiele angebe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stigung, Delphi-Objekt StringGr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ingabe und Ausgabe von Zahlen, Zeichenketten in eindimensionale Felder realisieren (Beispielprogramm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sonenzähler u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lie1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G, SST, Modellierungsübu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K_Datenfe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7835760" y="228600"/>
            <a:ext cx="83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Zie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1551-2D3A-4C51-AEA4-EAE4075F60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tundenziele und didaktische Hinweise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413000"/>
            <a:ext cx="24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Doppelstunde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24000" y="1833480"/>
          <a:ext cx="8495640" cy="4187520"/>
        </p:xfrm>
        <a:graphic>
          <a:graphicData uri="http://schemas.openxmlformats.org/drawingml/2006/table">
            <a:tbl>
              <a:tblPr/>
              <a:tblGrid>
                <a:gridCol w="2831760"/>
                <a:gridCol w="2832120"/>
                <a:gridCol w="2831760"/>
              </a:tblGrid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gnitive Zi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ychomotorische Zi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ffektive Zi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griffe 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zedur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Standard~, selbstdef. ~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kennen die Vorteile der Modularisierung, auch als Grundlage von Teamarbe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griffe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Parameterliste, aktuelle, formale Parameter, Werte- und Variablenparameter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önnen zu einfachen Problemstellungen Parameterlisten für Prozeduren aufstellen, können Prozeduren definieren und aufruf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iele der Modularisierung (Austauschbarkeit, in sich geschlossene Module)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önnen mit Delphi Prozeduren erstell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griffe lokale und globale Variablen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7835760" y="228600"/>
            <a:ext cx="83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Zie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8BBE-1C25-4988-B3B0-C9F13D505D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tundenziele und didaktische Hinweise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41300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Doppelstunde I +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95280" y="1809720"/>
          <a:ext cx="8424720" cy="4371840"/>
        </p:xfrm>
        <a:graphic>
          <a:graphicData uri="http://schemas.openxmlformats.org/drawingml/2006/table">
            <a:tbl>
              <a:tblPr/>
              <a:tblGrid>
                <a:gridCol w="2016000"/>
                <a:gridCol w="4753080"/>
                <a:gridCol w="16556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ilzi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of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hrer- und Schülertätigkeit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ielorientierung / Motivieru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unahme der Komplexität der Problemstellungen, unübersichtlicher Programmcode führt zu effektiveren Methoden der Programmentwicklung nach dem Prinzip „Teile und Herrsche“ – Einführung in die Prozedurtechn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griffe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ndardprozedure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zeduren zum „Selbstbau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ammbeispiel aus der ersten Doppelstunde (Lage und Schnittpunkt zweier Geraden) und Erklärung des prozeduralen Umbaus </a:t>
                      </a:r>
                      <a:r>
                        <a:rPr b="1" i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Folie11a), 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tion und Aufruf von Proz. ohne Parame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usammenfassu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rteile der Prozedurtechnik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s hat sich zusätzlich im Programm geänder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sonderheit: lokale (und globale) Variabl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griffe: 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z. mit PÜ, formale Parameter, Wertepara (Var.para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tion und Aufruf an konkreten Beispiel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er nur Konzentration auf Werteparameter 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?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stigu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Übungen (HERONformel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plementierung in Delphi(?)  </a:t>
                      </a:r>
                      <a:r>
                        <a:rPr b="1" i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Folie1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7835760" y="228600"/>
            <a:ext cx="83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Zie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46E4-10D2-4D46-9374-EFE10C367C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tundenziele und didaktische Hinweise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413000"/>
            <a:ext cx="24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Doppelstunde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95280" y="1809720"/>
          <a:ext cx="8424360" cy="4211280"/>
        </p:xfrm>
        <a:graphic>
          <a:graphicData uri="http://schemas.openxmlformats.org/drawingml/2006/table">
            <a:tbl>
              <a:tblPr/>
              <a:tblGrid>
                <a:gridCol w="2808000"/>
                <a:gridCol w="2808360"/>
                <a:gridCol w="2808000"/>
              </a:tblGrid>
              <a:tr h="50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gnitive Zi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ychmotorische Zi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ffektive Zi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griff 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unktion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StandardFkt./Selbstdef. Fkt.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önnen zu einfachen Problemstellungen Parameterlisten für Funktionen aufstellen, können Funktionen definieren und aufruf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kennen die Vorteile von Funktionen gegenüber Prozedur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griffe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rtebereichsvariable, Definitionsbereichsvariable, Wertebereichstyp, Definitionsbereichsty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önnen mit Delphi Funktionen erstell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7835760" y="228600"/>
            <a:ext cx="83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Zie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2309-0D56-403B-B2ED-1FE38D0C1E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iederung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6920" y="2057400"/>
            <a:ext cx="755496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Vorbemerk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Vorleistungen Profilunterricht Klassenstufen 9/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Klassen- Schulsituation (Erfahrungswer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Allgemein fachliche Ziele und Kompeten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Stundenziele, didaktische Hinweise  und Kompeten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Reale didaktische Umsetzu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Erreichte Bildungs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Ist der Lehrplan umsetzb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 Quell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315200" y="2286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Gliede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7CA2-91A8-47EE-ACBE-1FFBC95063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tundenziele und didaktische Hinweise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41300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Doppelstunde I +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95280" y="1809720"/>
          <a:ext cx="8353440" cy="4211640"/>
        </p:xfrm>
        <a:graphic>
          <a:graphicData uri="http://schemas.openxmlformats.org/drawingml/2006/table">
            <a:tbl>
              <a:tblPr/>
              <a:tblGrid>
                <a:gridCol w="2016000"/>
                <a:gridCol w="4032360"/>
                <a:gridCol w="23050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ilzi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of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hrer- und Schülertätigkeit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ielorientierung / Motivieru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zeduren als in sich geschlossene Programmmodule,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eine globale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Variablen, spezielle Module für Datenrückgabe sind Funktion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griffe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ndardfunktionen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Pascal,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unktionen zum „Selbstbau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tion und Aufruf von Funktionen in Pascal an einfachen Beispielen zei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usammenfassu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zeduren und Funktionen, Vor- und Nachteile,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Folie 13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stigung und Übu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Folie 13C),  Implementierung in Delph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7835760" y="228600"/>
            <a:ext cx="83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Zie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8ADE-D6A2-495D-87BE-4FC9B4B7337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tundenziele und didaktische Hinweise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1413000"/>
            <a:ext cx="24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Doppelstu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2276640"/>
            <a:ext cx="79930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Übungsreserve, Konsult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ausuren Variante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ausur Variante B (Datenfelder, Prozeduren, Funktionen) mit praktischem Teil,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835760" y="228600"/>
            <a:ext cx="83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Zie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8094-D233-4F7E-B481-9DB199EC0A4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Reale didaktische Umsetzung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96360" y="228600"/>
            <a:ext cx="104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Realitä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40000" y="263700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ffverteilungsplan 2007/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644E-5F86-43FA-9207-465709E6D7B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8040" y="1065240"/>
            <a:ext cx="77724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Bildungsstandard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57200" y="1703520"/>
          <a:ext cx="8381880" cy="3786120"/>
        </p:xfrm>
        <a:graphic>
          <a:graphicData uri="http://schemas.openxmlformats.org/drawingml/2006/table">
            <a:tbl>
              <a:tblPr/>
              <a:tblGrid>
                <a:gridCol w="1371600"/>
                <a:gridCol w="1523880"/>
                <a:gridCol w="1524240"/>
                <a:gridCol w="1447560"/>
                <a:gridCol w="990720"/>
                <a:gridCol w="1523880"/>
              </a:tblGrid>
              <a:tr h="70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h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l. &amp; Imple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ründen &amp; Bewert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uktur. &amp; Vernetz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mm. &amp; Koop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rstellen &amp; Interpreti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 &amp; Dat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nstruktur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nstruktur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nstruktur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nstruktur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orithm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lösung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lösung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lösung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rachen &amp; Automat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lösu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lösu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lösu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lösu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k-syste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., Mensch &amp; Gesellscha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6804000" y="22860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Bildungsstanda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BC22-F463-4197-A232-F1D20E4329E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8040" y="1065240"/>
            <a:ext cx="77724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Bildungsstandard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04000" y="22860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Bildungsstanda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1700280"/>
            <a:ext cx="8497800" cy="36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zug aus der EPA-Informati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Kennen und Anwenden informatischer Metho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Prüfli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önn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formatiksysteme zur Lösung einer Aufgabenstellung konfigurieren und anpasse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önn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verschiedene Problemlösungsstrategien und Techniken wie Iteration, Rekursion und Klassenbildung einsetze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d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sbesondere mit dem Modellbildungszyklu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ertrau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; dazu gehören in problemadäquater Auswahl und Reihenfolge: Problemanalyse und Problemspezifikation, Abgrenzen des Problems, Abstraktion, Idealisierung, Strukturieren und Zerlegen in Teilprobleme (Modularisieren), Formalisieren, Umsetzen unter Berücksichtigung der zur Verfügung stehende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rkzeuge und Hilfsmitt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Testen der Lösung, kritisches Reflektieren der Ergebnisse und der Lösung allgemein,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Überarbeitung des Modell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ptimierung der Lös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B2F3-D475-4ABF-A413-BEEC9A918D8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Ist der Lehrplan umsetzbar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1484280"/>
            <a:ext cx="8353440" cy="48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 wird Zeit brauchen, denn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präzise Formulierunge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LB1 : Begriff „Kommunikationsebenen“ steht in keinem 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e viel Tiefgründigkeit ist sinnvoll?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chichtenmod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klare Hinweis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LB4: Teilbereichstypen, Aufzählungsty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st das an diese Stelle im LB 4?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apel, Schla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antastische Hinweis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LB 5: Rundreiseproblem, Dameproblem, Stundenplan – aber Datenstruktur Graph nicht erwäh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 gibt im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eine Zeit fü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jektarbeitsphas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 viel Inhalt, Gefahr der Oberflächlichkeit, zu wenig Tiefe, zu wenig Werkzeugkenntnisse – nur Kompetenzen reichen nach meiner persönlichen Meinung n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ch habe ein ungutes Gefühl, meinen Schülern ein Informatik-Studium zu empfehl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61440" y="228600"/>
            <a:ext cx="11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Lehr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6C10-D823-43FA-A5D9-B2832391AC4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Quelle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1773360"/>
            <a:ext cx="8353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hrplan Informatik Sach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hrplan nw. Profil 9/10 Sach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UDEN Informatik LB S II, DUDEN PAETEC Schulbuchverlag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heitliche Prüfungsanforderungen – Informatik (Beschluss der Kultusministerkonferenz vom 01.12.1989 i.d.F. vom 05.02.200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24720" y="22860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Que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99FF-7808-48C7-9D25-BD95EF3A058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Vorbemerkunge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26920" y="205704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s dem Vorwort zum LP Informatik – JS 11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alisieren von Problemlöseprozessen –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(Hier: Bezug auf LB 4 und 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Schüle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end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die Phasen von Problemlöseprozesse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ystematisch a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e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ert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Problemlösunge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ritisc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und können diese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nter verschiedenen Aspekten beurteil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Schüler kenne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ispiel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von Problemen, die mit informatischen Werkzeuge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ich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oder nu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eilweise lösba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si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e kenne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infach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omplex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Algorithmen- und Datenstrukture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nd setzen dies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unter Verwendung von Programmiersprache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m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978600" y="228600"/>
            <a:ext cx="169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Vorbemerkun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B970-9DB8-439F-A9EF-A3FCEAE831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Vorbemerkunge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806616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öchste Anforderung in den Lernbereichen 4 (und 5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herrschen = Handlungs- und Verfahrensweisen routinemäßig gebrauc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B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herrsche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r Implementierung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sgewählt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atenstrukturen in einer Programmierumgebu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Begreifen und routinemäßiges Anwenden z.B. nur des Datentyps Feld dauert schon immer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indestens 4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Unterrichtsstund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herrsche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r Arbeit mit Unterprogrammen (Prozeduren, Funktion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egreifen und routinemäßiges Anwenden der Prozeduren und Funktionen benötigt schon immer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indesten 6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Unterrichtsstunde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B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herrsche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r Implementierung ausgewählt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blemlösestrategie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          Algorithmen in einer Programmierumgebu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(Entwicklung eigener Programme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978600" y="228600"/>
            <a:ext cx="169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Vorbemerkun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A05E-D9CA-4992-8BCB-C1668049A2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Vorbemerkunge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2057040"/>
            <a:ext cx="8066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in Vergleic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P Informatik (199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ariante a: Einführung in die Programmierung (Klassenstufe 1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60 + x St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ariante b: Komplexe Problemlösungen (Klassenstufe 1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60 + x Std.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von 16 Std. </a:t>
            </a:r>
            <a:r>
              <a:rPr b="0" lang="de-DE" sz="1400" spc="-1" strike="noStrike">
                <a:solidFill>
                  <a:srgbClr val="ff0000"/>
                </a:solidFill>
                <a:latin typeface="Arial"/>
              </a:rPr>
              <a:t>Projektp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P Profil 9/10 (2004 – nw. Profi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ssen, Steuern, Regel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4 Std. (+/ 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P Informatik 11 (2004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B 4 Datenstrukturen und Modularisierung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0 St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B 5 Algorithme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8 Std. </a:t>
            </a:r>
            <a:r>
              <a:rPr b="0" lang="de-DE" sz="1400" spc="-1" strike="noStrike">
                <a:solidFill>
                  <a:srgbClr val="ff0000"/>
                </a:solidFill>
                <a:latin typeface="Arial"/>
              </a:rPr>
              <a:t>keine Projektp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Wahlpflicht 2 - Suchenstrategie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4 Std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mme: ca.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42 + 4 St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978600" y="228600"/>
            <a:ext cx="169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Vorbemerkun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B06F-1CC0-43F9-A013-2548E1F3D0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2. Vorleistungen nw-Profil Klassestufen 9/10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09480" y="2057040"/>
            <a:ext cx="8066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nn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r Grundlagen der Programmi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infache Datentyp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Zahlen- und Zeichentyp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gorithmische Grundstrukturen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quenz, Selektion, Zykl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nblick gewinn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die Modularisierun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rukturiertes Denke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edeutung für die Arbeit im Tea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rbeitsorgan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wend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r Phasen des Problemlöseproz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eine Stufe höher als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eherrschen !?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infache Proble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wendung einer Programmierumgebun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imulation einer Heizungsregel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978600" y="228600"/>
            <a:ext cx="169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Vorleistun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FD29-9864-4D3D-8CAB-798EBA83C3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Klassen- Schulsituation (Erfahrungswerte)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09480" y="2057040"/>
            <a:ext cx="8066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ulsituation Bernhard-von-Cotta-Gymnasium: (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rfahrung aus Schuljahr 2007/08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 Kurse nw. Profil, 1 Kurs sportliches Profil, 1 Kurs sprachliches Prof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ete Programmierumgebung: JAVASCRIPT oder TURBO PAS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blem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eine einheitlich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Voraussetzungen für Jahrgangsstufen 11/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ils erhebliche Leistungs-Spannbreite – Zugangsquote zum Gymnasium bei ca. 40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ch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sfal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ller Art ist auch mit der Nichterfüllung von Lehrplaninhalten zu rechn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Hinweise zur Modularisi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r ein Zyklustyp behande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ausreichende Festigung in der Handhabung von Zeichenke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ausreichende Festigung bei der Umsetzung des Problemlösungsproz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gefestigten Kenntnisse beim Darstellen von Struktogram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chnische bedingte Ausfälle (Exkursionen, PC-Technik, Netzwerkausfa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236000" y="22860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Erfahrun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B454-B827-4786-933D-EC37E7A31C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Klassen- Schulsituation (Erfahrungswerte)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09480" y="2057040"/>
            <a:ext cx="8066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er wird der Einstieg in der Klasse 11 zu einem Zufallsexperi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halb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prachen zwischen Kollegen Profil 9/10 – Informatik 11/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stellung einheitlicher Voraussetzungen (z.B. Nutzung einer einheitlichen Programmierumgeb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it für Einführung einer neuen Programmierumgeb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it für Wiederholung und Festigung der Grundstrukturen der Programm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Ziele in den Jahrgangsstufen 11/12 relativier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k differenzierter Unterricht notwendig (große Leistungsbre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36000" y="22860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Erfahrun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905B-FD96-438B-B75A-EE576361B5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llgemein fachliche Ziele und Kompetenzen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09480" y="2057040"/>
            <a:ext cx="8066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B 4 - Datenstrukturen und Modularisierung – 10 Stun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ennen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n Datenstruktu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e Datentyp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Aufzählungs-,Teilbereichstyp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?, BOOLEAN?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ukturierte Datentyp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Feld, Record, File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Objek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öhere Datenstruktur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Stapel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Schlange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Liste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Baum,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raph?, File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inblick gewinn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arbeitungsprinzipien LIFO, FIF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herrsch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er Implementierung ausgewählt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Bsp.: einfache und strukturierte Datenstrukturen in Programmierumgeb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typ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herrsch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er Arbeit mit Unterprogramm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Bsp.: Funktion, Prozedu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uktur von Unterprogram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ung von Paramet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51680" y="228600"/>
            <a:ext cx="16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Allgemeine Zie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79D4-508E-4E7B-93CB-96A3C4E200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3T20:06:35Z</dcterms:created>
  <dc:creator>Fam. Kaden</dc:creator>
  <dc:description/>
  <dc:language>en-US</dc:language>
  <cp:lastModifiedBy>Frank Kaden</cp:lastModifiedBy>
  <dcterms:modified xsi:type="dcterms:W3CDTF">2008-06-24T23:01:55Z</dcterms:modified>
  <cp:revision>376</cp:revision>
  <dc:subject/>
  <dc:title>PowerPoint-Präsentation</dc:title>
</cp:coreProperties>
</file>